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532-15C9-4A50-B006-E34AF9E6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199-957E-462B-B67E-D06CE720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4A5-690B-4A1C-846C-FEF6E187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9AD-36D8-4F69-A977-041A2308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721A-B9A7-45D0-A86A-387B0A29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C06-96D8-4CB4-8A01-74CB7ACA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841-77B0-4707-BCD2-66BAFE2D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1C7-3EE0-4A98-AE59-00491631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D18-E8BE-4AAD-BF51-78749D3E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78D2-262A-4CDE-AE9D-513A68C0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3F2-0C7F-45CD-ABDE-473C76EB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66CA-3D9A-43F9-A0BF-E2E2FB5B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5A37-3542-46EE-8EEE-B284AF790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532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417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57243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640080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87680" y="246240"/>
            <a:ext cx="3968640" cy="63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41112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-42840"/>
            <a:ext cx="82296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77840"/>
            <a:ext cx="883908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488880"/>
            <a:ext cx="8686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72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774720" y="-1219320"/>
            <a:ext cx="10693440" cy="9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90360"/>
            <a:ext cx="9144000" cy="70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507960" y="114480"/>
            <a:ext cx="101599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609480" y="171360"/>
            <a:ext cx="100584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41:00Z</dcterms:created>
  <dc:creator>lucy/laffitte</dc:creator>
  <dc:description/>
  <dc:language>en-US</dc:language>
  <cp:lastModifiedBy>lucy/laffitte</cp:lastModifiedBy>
  <dcterms:modified xsi:type="dcterms:W3CDTF">2011-05-26T04:11:00Z</dcterms:modified>
  <cp:revision>2</cp:revision>
  <dc:subject/>
  <dc:title>PowerPoint Presentation</dc:title>
</cp:coreProperties>
</file>